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C611-B78E-4955-BC0C-F55BED4A8E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CC3B-362F-4694-BD94-98BE7E26E4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9A8-7F85-480C-B1D9-A1CA0D615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45E-C76C-4BC1-B5D7-14B1D572CE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FC4E-23C5-4ED4-BB51-C334D51EE9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94B7-06DA-433A-B355-19BBCEECAF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8265-9342-4CA6-B178-ADF0354EBA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1F6-70DB-4DB5-89C6-AD4538E207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B84B-4A8A-4E1C-A013-FF2A49FE29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C68E-C061-48E2-B0E8-E4A2348D8E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CD1A-E9DF-4389-865F-D07CFCAE91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BA5-3DAD-4A2A-9C1E-9A974D30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2F1-F2C4-4D0E-B8CA-D0B56552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D2F-BAE3-4197-8FFB-2464A7ED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B54-EE9D-492D-8B6D-D6A61CD2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812-8973-401D-85C4-883FD30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C5D-90FE-49E3-ABB5-A7933107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2B8-2CCC-4299-92BD-59E6F4BB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D04-0AE7-49EA-A6AF-0D338BD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55F-E2D1-4DBE-A414-3A3F3F3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904-4B9C-461B-8449-B4922AE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651-99D0-416F-8C02-70D418B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B86-71D3-47AE-B6A3-EFD8FF8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A6F4-E9E3-408B-9460-7A0A5FB5AA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-6480" y="2157480"/>
            <a:ext cx="9156960" cy="2066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logo clear.png"/>
          <p:cNvPicPr/>
          <p:nvPr/>
        </p:nvPicPr>
        <p:blipFill>
          <a:blip r:embed="rId2"/>
          <a:stretch/>
        </p:blipFill>
        <p:spPr>
          <a:xfrm>
            <a:off x="7286760" y="5072040"/>
            <a:ext cx="15573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521496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his file contains photographs taken by Arthur Warrington Th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his file is licensed under the Creative Commons Attribution ShareAlike 3.0 License. In short: you are free to share and make derivative works of the file under the conditions that you appropriately attribute it, and that you distribute it only under a license identical to this o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3"/>
          <p:cNvSpPr/>
          <p:nvPr/>
        </p:nvSpPr>
        <p:spPr>
          <a:xfrm>
            <a:off x="3286080" y="2071800"/>
            <a:ext cx="2643120" cy="257148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New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95920" y="4786200"/>
            <a:ext cx="527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 is behind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221480" y="1071720"/>
            <a:ext cx="227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ligh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out_of_page_arrow.png"/>
          <p:cNvPicPr/>
          <p:nvPr/>
        </p:nvPicPr>
        <p:blipFill>
          <a:blip r:embed="rId1"/>
          <a:srcRect l="6264" t="8885" r="6011" b="15510"/>
          <a:stretch/>
        </p:blipFill>
        <p:spPr>
          <a:xfrm>
            <a:off x="3643200" y="857160"/>
            <a:ext cx="2000520" cy="12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rescent.jpg"/>
          <p:cNvPicPr/>
          <p:nvPr/>
        </p:nvPicPr>
        <p:blipFill>
          <a:blip r:embed="rId1"/>
          <a:stretch/>
        </p:blipFill>
        <p:spPr>
          <a:xfrm>
            <a:off x="2827440" y="1357200"/>
            <a:ext cx="3601800" cy="3602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863640" y="2571840"/>
            <a:ext cx="1284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2500200" y="5996160"/>
            <a:ext cx="4786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Crescent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bottom_right_arrow.png"/>
          <p:cNvPicPr/>
          <p:nvPr/>
        </p:nvPicPr>
        <p:blipFill>
          <a:blip r:embed="rId2"/>
          <a:srcRect l="38665" t="17820" r="15042" b="23186"/>
          <a:stretch/>
        </p:blipFill>
        <p:spPr>
          <a:xfrm>
            <a:off x="785880" y="3643200"/>
            <a:ext cx="24670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First Quarter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first-quarter-moon.jpg"/>
          <p:cNvPicPr/>
          <p:nvPr/>
        </p:nvPicPr>
        <p:blipFill>
          <a:blip r:embed="rId1"/>
          <a:srcRect l="4308" t="3169" r="9625" b="3779"/>
          <a:stretch/>
        </p:blipFill>
        <p:spPr>
          <a:xfrm rot="19357200">
            <a:off x="3159000" y="1652400"/>
            <a:ext cx="3183120" cy="2981160"/>
          </a:xfrm>
          <a:prstGeom prst="rect">
            <a:avLst/>
          </a:prstGeom>
          <a:ln w="0">
            <a:noFill/>
          </a:ln>
        </p:spPr>
      </p:pic>
      <p:sp>
        <p:nvSpPr>
          <p:cNvPr id="64" name="Down Arrow 24"/>
          <p:cNvSpPr/>
          <p:nvPr/>
        </p:nvSpPr>
        <p:spPr>
          <a:xfrm rot="16200000">
            <a:off x="1046160" y="2214360"/>
            <a:ext cx="1643040" cy="17859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cf00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50160" y="1285920"/>
            <a:ext cx="227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ligh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axing Gibbous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2" descr="8daymoons.jpg"/>
          <p:cNvPicPr/>
          <p:nvPr/>
        </p:nvPicPr>
        <p:blipFill>
          <a:blip r:embed="rId1"/>
          <a:srcRect l="74221" t="-3398" r="0" b="0"/>
          <a:stretch/>
        </p:blipFill>
        <p:spPr>
          <a:xfrm rot="7612200">
            <a:off x="2668320" y="1668240"/>
            <a:ext cx="3992760" cy="367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bottom_right_arrow_gibbous.png"/>
          <p:cNvPicPr/>
          <p:nvPr/>
        </p:nvPicPr>
        <p:blipFill>
          <a:blip r:embed="rId2"/>
          <a:srcRect l="26261" t="25868" r="32994" b="21841"/>
          <a:stretch/>
        </p:blipFill>
        <p:spPr>
          <a:xfrm rot="7217400">
            <a:off x="825480" y="2622240"/>
            <a:ext cx="2143080" cy="1936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578880" y="1714680"/>
            <a:ext cx="2279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Sunligh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full2.jpg"/>
          <p:cNvPicPr/>
          <p:nvPr/>
        </p:nvPicPr>
        <p:blipFill>
          <a:blip r:embed="rId1"/>
          <a:stretch/>
        </p:blipFill>
        <p:spPr>
          <a:xfrm rot="14323200">
            <a:off x="2285280" y="1499040"/>
            <a:ext cx="5216400" cy="3478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here is the Su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Full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Into_page_arrow.png"/>
          <p:cNvPicPr/>
          <p:nvPr/>
        </p:nvPicPr>
        <p:blipFill>
          <a:blip r:embed="rId2"/>
          <a:srcRect l="5590" t="19158" r="5590" b="28544"/>
          <a:stretch/>
        </p:blipFill>
        <p:spPr>
          <a:xfrm>
            <a:off x="2428920" y="4572000"/>
            <a:ext cx="45720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Phase 6 of the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Waning Gibbous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Down Arrow 9"/>
          <p:cNvSpPr/>
          <p:nvPr/>
        </p:nvSpPr>
        <p:spPr>
          <a:xfrm rot="5400000">
            <a:off x="6425640" y="2503440"/>
            <a:ext cx="1643040" cy="17859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wan_gibb.png"/>
          <p:cNvPicPr/>
          <p:nvPr/>
        </p:nvPicPr>
        <p:blipFill>
          <a:blip r:embed="rId1"/>
          <a:stretch/>
        </p:blipFill>
        <p:spPr>
          <a:xfrm>
            <a:off x="2857680" y="1571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ottom_right_arrow_gibbous.png"/>
          <p:cNvPicPr/>
          <p:nvPr/>
        </p:nvPicPr>
        <p:blipFill>
          <a:blip r:embed="rId2"/>
          <a:srcRect l="26261" t="25868" r="32994" b="21841"/>
          <a:stretch/>
        </p:blipFill>
        <p:spPr>
          <a:xfrm rot="18494400">
            <a:off x="6235200" y="2445120"/>
            <a:ext cx="21430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Phase 7 of the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Last Quarter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own Arrow 13"/>
          <p:cNvSpPr/>
          <p:nvPr/>
        </p:nvSpPr>
        <p:spPr>
          <a:xfrm rot="5400000">
            <a:off x="6857640" y="2500200"/>
            <a:ext cx="1643040" cy="17859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wan_quarter.png"/>
          <p:cNvPicPr/>
          <p:nvPr/>
        </p:nvPicPr>
        <p:blipFill>
          <a:blip r:embed="rId1"/>
          <a:stretch/>
        </p:blipFill>
        <p:spPr>
          <a:xfrm>
            <a:off x="2481120" y="114300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0" y="5996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Crescent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558ed5"/>
                </a:solidFill>
                <a:latin typeface="Calibri"/>
              </a:rPr>
              <a:t>Phase 8 of the 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9" descr="crescent.jpg"/>
          <p:cNvPicPr/>
          <p:nvPr/>
        </p:nvPicPr>
        <p:blipFill>
          <a:blip r:embed="rId1"/>
          <a:stretch/>
        </p:blipFill>
        <p:spPr>
          <a:xfrm>
            <a:off x="2357280" y="1285920"/>
            <a:ext cx="3673800" cy="367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ttom_right_arrow.png"/>
          <p:cNvPicPr/>
          <p:nvPr/>
        </p:nvPicPr>
        <p:blipFill>
          <a:blip r:embed="rId2"/>
          <a:srcRect l="16494" t="18300" r="37717" b="23186"/>
          <a:stretch/>
        </p:blipFill>
        <p:spPr>
          <a:xfrm>
            <a:off x="5222880" y="3929040"/>
            <a:ext cx="2538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2:05:18Z</dcterms:created>
  <dc:creator>Education</dc:creator>
  <dc:description/>
  <dc:language>en-US</dc:language>
  <cp:lastModifiedBy> </cp:lastModifiedBy>
  <dcterms:modified xsi:type="dcterms:W3CDTF">2010-03-11T23:49:18Z</dcterms:modified>
  <cp:revision>63</cp:revision>
  <dc:subject/>
  <dc:title>Slide 1</dc:title>
</cp:coreProperties>
</file>